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E82-FA34-44BF-A7B0-97593000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C28-B3FE-4DEC-96B5-846416F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100-29EA-4C1E-B8C6-6C54E628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14C-B377-4B13-A0AC-EA8FB04D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509E-807F-44A3-93D6-D10FF9EF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EDD7-BE32-4AEF-A53A-20701E9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CB88-C8D4-4717-9529-C289E14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ABE0-91D8-418F-B376-4E8D0509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459-172D-4FD1-8B60-DFE1D174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4BD-2F09-4B93-9739-3A22FF4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1B5-4EC3-4452-8C60-9B0439D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9E2-4B34-48FD-BFCE-5D56EBD7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EE59-49F7-4915-8E90-006C5B80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E40E-182B-4BCD-8044-44A6D03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74C8-A5A7-425A-87E1-47A8FEC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E33-2CF8-4CA0-852F-01CD6803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9C01-AF48-4F8A-940C-B439B57A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A15-42A9-4396-8023-09BE34A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B3C-EC02-4D59-A5C1-5BADA2B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1EA-B80C-4484-A2A0-87DA7F7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30D-9E20-4AE0-B751-9585A41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C5C-5191-4E7F-90DC-799AEFA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F1B-EDC6-4F66-A562-9FC759E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176-BE77-4712-BDED-DBFC60C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5ED-0398-489B-8E7A-2EDBDB5EB8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D8B-237E-4A6B-9521-B2E9EF64082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32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b7"/>
                </a:solidFill>
                <a:latin typeface="Arial Black"/>
              </a:rPr>
              <a:t>Identificação de fatores de adoecimento da Justiça Federal Fórum de Maceió-A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4723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s. Enfª Socorro Alé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corroalecio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2348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b7"/>
                </a:solidFill>
                <a:latin typeface="Arial Black"/>
              </a:rPr>
              <a:t>Levantamento dos fatores de risc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924280"/>
            <a:ext cx="716112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rgonô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isco de acid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i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Risco ergonômic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69454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licado o questionário de Couto para escritório onde foram identificados os risco  alto,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médi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 baixo para as doenças osteomusc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Ações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lestras educ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stribuição de folders explicativos sobre LER/D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rificação da glicemia capilar e do colestero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 motivacional  de along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inastica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Propostas de intervençõ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oca de pisos do carpete para cerâm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lhora da iluminaçã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peza do ar-condicion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cortinas nas janelas das varas para diminuir a luminos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tituição das pausas durantes as digitações nas salas de audiência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programas de voz nas salas de audiênc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a Ginástica laboral considerando o perfil epidemiológico de cada set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os mouses ergonômic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ras de estações de trabalho mais adequadas de acordo a NR1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Arquiv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valiação clinica cardio respiratória dos servid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edição da luminosidade,umidade relativa do ar e aplicação do questionario de Couto para escritó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teriormente treinamento para uso de EPI de acordo o trabalho no arquivo gera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Conclusã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trega do relatório final do diretor do Fórum para implantação das sugestõ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6:00:58Z</dcterms:created>
  <dc:creator>socorro.alecio</dc:creator>
  <dc:description/>
  <dc:language>en-US</dc:language>
  <cp:lastModifiedBy>Fenajufe</cp:lastModifiedBy>
  <dcterms:modified xsi:type="dcterms:W3CDTF">2014-10-11T13:08:55Z</dcterms:modified>
  <cp:revision>11</cp:revision>
  <dc:subject/>
  <dc:title>Perfil Epidemiológico do TRT19º</dc:title>
</cp:coreProperties>
</file>